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61F-D43B-4E92-9B6F-9A0CF71C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9E1-5E86-4451-8D52-58D57F0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109-067D-4F68-B023-AA0D4B96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976-504D-4700-84CA-C8BF3E4E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F47-FEA6-4ACE-9C47-DD77F135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8BD-7D73-4294-84A9-44039805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37E-CF58-444C-ADE1-4AFD83B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12E-9BC4-4110-ACA1-5DAB0FB3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52E-0D70-4C7E-9B8F-01CFFFFC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5EA-CD07-417B-92D7-34DCC3E7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D9F-4B9D-49BE-BB60-126FF95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D9F-77D2-452D-9C0B-9FB7F16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396A-D842-4D3A-9334-DC4101A4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3760" y="3505320"/>
            <a:ext cx="2266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785960"/>
            <a:ext cx="3809880" cy="347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bis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4116240" cy="430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772080" cy="296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144792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PubOvalCallout"/>
          <p:cNvSpPr/>
          <p:nvPr/>
        </p:nvSpPr>
        <p:spPr>
          <a:xfrm>
            <a:off x="2895480" y="2209680"/>
            <a:ext cx="2743200" cy="2438640"/>
          </a:xfrm>
          <a:custGeom>
            <a:avLst/>
            <a:gdLst>
              <a:gd name="textAreaLeft" fmla="*/ 401400 w 2743200"/>
              <a:gd name="textAreaRight" fmla="*/ 2341800 w 2743200"/>
              <a:gd name="textAreaTop" fmla="*/ 267840 h 2438640"/>
              <a:gd name="textAreaBottom" fmla="*/ 1562040 h 2438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5909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Visit California and have a Whale of a good tim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228600"/>
            <a:ext cx="3048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ifor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525" t="0" r="44434" b="25136"/>
          <a:stretch/>
        </p:blipFill>
        <p:spPr>
          <a:xfrm>
            <a:off x="4038480" y="2438280"/>
            <a:ext cx="4191120" cy="3900600"/>
          </a:xfrm>
          <a:prstGeom prst="rect">
            <a:avLst/>
          </a:prstGeom>
          <a:ln w="0">
            <a:noFill/>
          </a:ln>
        </p:spPr>
      </p:pic>
      <p:sp>
        <p:nvSpPr>
          <p:cNvPr id="60" name="PubOvalCallout"/>
          <p:cNvSpPr/>
          <p:nvPr/>
        </p:nvSpPr>
        <p:spPr>
          <a:xfrm>
            <a:off x="4495680" y="762120"/>
            <a:ext cx="1981440" cy="2133360"/>
          </a:xfrm>
          <a:custGeom>
            <a:avLst/>
            <a:gdLst>
              <a:gd name="textAreaLeft" fmla="*/ 290160 w 1981440"/>
              <a:gd name="textAreaRight" fmla="*/ 1691280 w 1981440"/>
              <a:gd name="textAreaTop" fmla="*/ 234360 h 2133360"/>
              <a:gd name="textAreaBottom" fmla="*/ 1366560 h 2133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elcome to Hogwarts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87964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05320" y="1752480"/>
            <a:ext cx="3838680" cy="355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752480" y="2971800"/>
            <a:ext cx="3381480" cy="3390840"/>
          </a:xfrm>
          <a:prstGeom prst="rect">
            <a:avLst/>
          </a:prstGeom>
          <a:ln w="0">
            <a:noFill/>
          </a:ln>
        </p:spPr>
      </p:pic>
      <p:sp>
        <p:nvSpPr>
          <p:cNvPr id="66" name="PubOvalCallout"/>
          <p:cNvSpPr/>
          <p:nvPr/>
        </p:nvSpPr>
        <p:spPr>
          <a:xfrm>
            <a:off x="1371600" y="2209680"/>
            <a:ext cx="2362320" cy="182880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200880 h 1828800"/>
              <a:gd name="textAreaBottom" fmla="*/ 1171440 h 1828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514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stop an elephant from charg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OvalCallout"/>
          <p:cNvSpPr/>
          <p:nvPr/>
        </p:nvSpPr>
        <p:spPr>
          <a:xfrm>
            <a:off x="4114800" y="160020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it’s credi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474920" cy="256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0626200">
            <a:off x="2590920" y="990360"/>
            <a:ext cx="1828800" cy="166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0225400">
            <a:off x="533160" y="4190760"/>
            <a:ext cx="1784160" cy="1866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514600" cy="1974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4525" t="0" r="44434" b="25136"/>
          <a:stretch/>
        </p:blipFill>
        <p:spPr>
          <a:xfrm>
            <a:off x="2362320" y="2743200"/>
            <a:ext cx="2666880" cy="248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04920" y="167652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038480" y="4419720"/>
            <a:ext cx="212904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248520" y="3390840"/>
            <a:ext cx="2590560" cy="2397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228600"/>
            <a:ext cx="2247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to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1:03Z</dcterms:created>
  <dc:creator>Patrick J. Mooney</dc:creator>
  <dc:description/>
  <dc:language>en-US</dc:language>
  <cp:lastModifiedBy>Patrick J. Mooney</cp:lastModifiedBy>
  <dcterms:modified xsi:type="dcterms:W3CDTF">2011-04-25T23:13:50Z</dcterms:modified>
  <cp:revision>11</cp:revision>
  <dc:subject/>
  <dc:title>Slide 1</dc:title>
</cp:coreProperties>
</file>